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F7A-E390-4DE7-9A53-1030006E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5CE-A866-46AD-9EAC-242D3D2A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6A4-B811-4B31-9AB1-3B488373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9D3-063D-41F4-9D4D-48F95BCF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B645-7781-46C2-9E01-6E9A5A20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F8C2-6458-4E48-B970-5C6BBE2F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0F76-6725-46A3-82D3-30377712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C582-3601-419C-B39D-0BE54F29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3028-BD46-41CA-A458-E77C6EBA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63C5-C277-4BBA-99E3-31AEC459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2785-2BBA-4185-B45A-89DD1C5A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325-F5E6-4EED-867C-925F8678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BAA4-F2A7-4ECC-8D5A-CD708930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E1C1-372E-4254-93AC-1C8C6979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F070-053C-40E4-AAA9-1D6B546F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89BE-FA99-44BA-B285-F7B539B9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0C45-80C7-40C3-8172-75F6D839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61D-44FD-4E1D-8535-752D3273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E7D-2D80-4579-8725-6E5F7AB0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0F5-6F41-4F2E-A18E-6C6174B8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3BA-644C-4004-814C-6897ABF4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086-A66B-486F-A6DF-3E865A70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D1D-DAF7-4903-A29F-2CEFF680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870-CA9E-4A6C-BAC3-DB5F02E2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034E-952E-4C15-9175-0F425B9F961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8392-0827-40A7-8F73-6078B602BFC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076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ir, We Would See Jesus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- Life of Christ -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43000" y="37339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9, Lesson 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9-1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Matt. 2:1-23; John 1:1-1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4138-0E76-4E90-AC94-1A1C15820C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ames applied to this baby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esus (Luke 1:31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mmanuel (Matt. 1:2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rist (Rom. 8:12) (Luke 9:2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ssiah (John 4:2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vior (II Tim.1:10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ief Shepherd (I Pet. 5: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eat High Priest (Heb. 4:1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n of David (Matt. 9:27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n of God (Rom. 1:4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B1B-9C43-4BAE-A306-EAD18E04FD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is Genealogy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tt. 1:1-17 – Joseph’s linea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uke 3:23-38 – Mary’s linea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B53-2473-4F23-B8F6-DF701C9430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Visit of the Wise Men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t. 2:1-1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Wise men from the east followed His star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Arriving in Jerusalem, they inquired:  “Where is the one born king of the Jews?”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King Herod – “Find where the child is so that I may worship him”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They followed the star to a house in Bethlehem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Worshiped the child and gave Him gifts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Warned by God not to return to Herod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07B-52B5-479F-B231-18680E2DFD55}" type="slidenum">
              <a:t>2</a:t>
            </a:fld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light into Egypt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t. 2:13-18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seph took Mary and the child to Egyp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od was tricked; became enrag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dered all young males up to two years old to be kill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member Jeremiah’s prophecy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Jer. 31:15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hesy of Hosea 11:1 fulfilled:  “Out of Egypt have I called my son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1B7-5E07-48BD-8538-47428C644485}" type="slidenum">
              <a:t>3</a:t>
            </a:fld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Herod the Gre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dumeans in the Jewish relig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od the Great - the second son of Antipater, governor of Idum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od was made king of Judea by the Romans (37-4 B.C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ed of a terrible disease at the age of 69 after a 37 year reig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s son Archelaus reigned over Jud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F08-7A54-413B-A7B2-BED263FCB6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Herod the Gre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of his accomplishment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ilt the great port city of Caesa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ilt aqueduct 13 miles long to get water to the 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built temple in Jerusalem (20 B.C.-A.D. 70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urdered his father-in-law, his wife, two sons, many others; tried to kill Jes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583-BE67-4306-BEE8-4835D9CCA9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562720" y="1371600"/>
            <a:ext cx="331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ingdom of Hero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rea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9F1-6AAB-4164-8FB0-C6E3DDE2BD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Return to Nazareth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t. 2:19-23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 angel of God commanded Joseph to return to Isra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returned to Nazare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esus was called a “Nazarene” -means a shoot or roo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f the house of David - see Isa. 11:1; Jer. 23: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E2B-C32F-4742-BE0F-0FC0DFD1B6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7162920" cy="5433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286000" y="0"/>
            <a:ext cx="436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llow The Ro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9144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ethlehe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Nazare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BB0-4673-43B2-B5B4-8A87450A4F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53416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y worship this baby? Who is He?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hn 1:1-18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gels announced His bi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epherds came to see Hi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se men worshiped Hi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was in the beginning. Always was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was divine, de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rough Him all things were creat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gal heir to David’s thr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is God’s 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CDD-57F8-4556-A3DA-0D8DC785A5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2:35:03Z</dcterms:created>
  <dc:creator> Tab Vines</dc:creator>
  <dc:description/>
  <dc:language>en-US</dc:language>
  <cp:lastModifiedBy>Frank D Vines</cp:lastModifiedBy>
  <dcterms:modified xsi:type="dcterms:W3CDTF">2006-07-16T13:19:18Z</dcterms:modified>
  <cp:revision>31</cp:revision>
  <dc:subject/>
  <dc:title>Sir, We Would See Jesus</dc:title>
</cp:coreProperties>
</file>